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C7EC2-81CA-41F4-B6B4-35FA4D745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6E1F8-9936-45D0-B24B-1EF51AC97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98DFD-184F-4986-BA44-F2C1FC577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4A9E2-260B-4057-9CD3-B77A1644CE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FA170-2767-43A3-B7EF-45CA351E6E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26B3E-C19D-4AB3-AD83-678413A19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BB5CB-82EA-4951-9BBB-E2EFC4514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5220-DE0F-4DC9-9A68-13FD631DC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67A61-FE48-47A9-A098-DE8E05A8A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9D221-3CD5-4901-812C-9597789F8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54183-9F5C-4302-BB4B-9BD60141EF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EC43D-8795-4097-B7C1-AB0768110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32CF-611F-4D52-AD2B-9BBD6D6BD0D2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1. Výzv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1 Pro koho je určena.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2 Rozpočet a urč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2. Podmínky a důvody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7578A-1973-4816-8D4D-6615E6F808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1. Výzva</a:t>
            </a: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Dne 16. března 2009 byla v systému EMITS zveřejně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Výzva pro podávání návrhů projektových záměr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ýzva je urče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pouze pro české firmy, univerzity a výzkumná pracovišt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. Zájemci mohou podat zjednodušené „vlastní i již vyvíjené“ projektové návrhy ze všech technologických oblastí, ve kterých se Evropská kosmická agentura (ESA) angažuje (viz slide 5)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 systému EMITS jsou vypsány další konkrétní tendry určené pro ČR s veškerou specifikací a s datem uzávěrky. Pro podrobnější informace je nutná registrace do systému</a:t>
            </a: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0D677-42F5-4859-9649-B23641853B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1 Pro koho jsou urče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ýzva pro podání projektových záměrů s termínem 15. květen je určena pro: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a)    letový hardware, s upřednostněním aktivit spojených se základním vybavením družic, senzorů či obecných technologií s potenciálem opětovného využití (rozpočet návrhu nesmí přesáhnout 1 0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b)    výzkumné a vývojové aktivity (včetně studií proveditelnosti) vedoucí k produktům (hardware nebo software), službám, ověření technologií, anebo obecným technologiím s potenciálem opětovného využití (rozpočet návrhu nesmí přesáhnout 2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c)    přípravné aktivity (např. studie, formulace uživatelských požadavků, průzkumy trhu) podporující českou konkurenceschopnost v programech ESA (povinných a volitelných), kterých se Česká republika účastní (rozpočet návrhu nesmí přesáhnout 100 000 Euro).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99D91-D4C9-4C4F-8471-65FDA187A7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2 Rozpočet a urč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Celkový rozpočet vyčleněný pro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uto Výzv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je               2 500 000 Euro. V rámci této Výzvy mohou podávat návrhy pouze společnosti nebo organizace sídlící v České republice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onsorcia zahrnující společnosti nebo organizace z jiných členských států mohou být schválena pouze v případě náležitého odůvodnění jejich zapojení. Úkoly přidělené subjektům mimo Českou republiku nesmí v žádném případě tvořit hlavní aktivity navrhovaného záměru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zdělávací a informační aktivity nejsou součástí této Výzvy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E2106-7AA7-4E9D-8BA3-DDDFCD200B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Podmínky a důvody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ýzva je otevřena pouze do 15. května 2009 </a:t>
            </a:r>
            <a:r>
              <a:rPr b="1" lang="cs-CZ" sz="2400" spc="-1" strike="noStrike" u="sng">
                <a:solidFill>
                  <a:srgbClr val="11a0e7"/>
                </a:solidFill>
                <a:uFillTx/>
                <a:latin typeface="Times New Roman"/>
              </a:rPr>
              <a:t>jen </a:t>
            </a: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pro podávání návrhů projektových záměrů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Do ostatních tendrů vypsaných v systému EMITS je možno se přihlašovat i nadále do data uzavření vypsaného tendru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škeré schválené projektové záměry budou kompletně financovány agenturou ESA. Registrace v systému EMITS je bezplatná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ostor mají veškeré organizace po zaregistrování do systému EMITS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81C1C-3A99-4D71-AADD-D80E87B681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F8B0F-9451-4F43-8CEC-A7D060DEAE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3T09:01:21Z</dcterms:modified>
  <cp:revision>38</cp:revision>
  <dc:subject/>
  <dc:title>Prezentace aplikace PowerPoint</dc:title>
</cp:coreProperties>
</file>