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5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6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7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56E6E-CF04-4425-A4D1-16E704EABAA9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B0F16-C42D-4B83-9978-07E88F0ED012}" type="slidenum">
              <a:rPr b="1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5A9B-EE5B-412A-9B55-C5FA1A00B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9155-EA5C-4EF7-B002-2FC4B4D4E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3452-729B-4369-9D86-5CDD78889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3220-5855-403F-B6FE-2B60A1CFD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2ED4-2329-48FD-BFAA-7AC69E26B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2D25-8E8B-41F7-8015-4A4B37DE9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D708-FD4A-408D-85BB-8181A5C29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67C4-A5B6-4C66-977B-1027EDF8B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7D32-833B-4B53-A579-E84986EB8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AFC3-9307-4AE4-BD6F-C73551D7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51CD-2703-4655-9D0C-876C8A7C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6F83-87F3-479B-8080-39A6A709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3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40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České vysoké učení technické v Praze - Fakulta dopravní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59C6C-1C0B-4CB2-8B3C-DA7ED4D4AD7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36" descr=""/>
          <p:cNvPicPr/>
          <p:nvPr/>
        </p:nvPicPr>
        <p:blipFill>
          <a:blip r:embed="rId3"/>
          <a:stretch/>
        </p:blipFill>
        <p:spPr>
          <a:xfrm>
            <a:off x="7543800" y="6381720"/>
            <a:ext cx="533520" cy="405000"/>
          </a:xfrm>
          <a:prstGeom prst="rect">
            <a:avLst/>
          </a:prstGeom>
          <a:ln w="0">
            <a:noFill/>
          </a:ln>
        </p:spPr>
      </p:pic>
      <p:sp>
        <p:nvSpPr>
          <p:cNvPr id="8" name="Line 45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" name="Picture 49" descr="obr3a_hhh"/>
          <p:cNvPicPr/>
          <p:nvPr/>
        </p:nvPicPr>
        <p:blipFill>
          <a:blip r:embed="rId4"/>
          <a:srcRect l="15230" t="4755" r="69543" b="0"/>
          <a:stretch/>
        </p:blipFill>
        <p:spPr>
          <a:xfrm>
            <a:off x="0" y="0"/>
            <a:ext cx="1295280" cy="6324480"/>
          </a:xfrm>
          <a:prstGeom prst="rect">
            <a:avLst/>
          </a:prstGeom>
          <a:ln w="0">
            <a:noFill/>
          </a:ln>
        </p:spPr>
      </p:pic>
      <p:sp>
        <p:nvSpPr>
          <p:cNvPr id="10" name="Line 51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Line 29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9" descr="obr3a_hhh"/>
          <p:cNvPicPr/>
          <p:nvPr/>
        </p:nvPicPr>
        <p:blipFill>
          <a:blip r:embed="rId3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1"/>
          <p:cNvSpPr/>
          <p:nvPr/>
        </p:nvSpPr>
        <p:spPr>
          <a:xfrm>
            <a:off x="4952880" y="68580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České vysoké učení technické v Praz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3"/>
          <p:cNvSpPr/>
          <p:nvPr/>
        </p:nvSpPr>
        <p:spPr>
          <a:xfrm>
            <a:off x="4876920" y="1828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a3d7a"/>
                </a:solidFill>
                <a:latin typeface="Arial"/>
              </a:rPr>
              <a:t>Fakulta dopravní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4"/>
          <p:cNvSpPr/>
          <p:nvPr/>
        </p:nvSpPr>
        <p:spPr>
          <a:xfrm>
            <a:off x="4876920" y="22096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a3d7a"/>
                </a:solidFill>
                <a:latin typeface="Arial"/>
              </a:rPr>
              <a:t>Ústav řídicí techniky a telematiky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38" descr=""/>
          <p:cNvPicPr/>
          <p:nvPr/>
        </p:nvPicPr>
        <p:blipFill>
          <a:blip r:embed="rId4"/>
          <a:stretch/>
        </p:blipFill>
        <p:spPr>
          <a:xfrm>
            <a:off x="8305920" y="722160"/>
            <a:ext cx="761760" cy="573120"/>
          </a:xfrm>
          <a:prstGeom prst="rect">
            <a:avLst/>
          </a:prstGeom>
          <a:ln w="0">
            <a:noFill/>
          </a:ln>
        </p:spPr>
      </p:pic>
      <p:sp>
        <p:nvSpPr>
          <p:cNvPr id="53" name="Line 46"/>
          <p:cNvSpPr/>
          <p:nvPr/>
        </p:nvSpPr>
        <p:spPr>
          <a:xfrm>
            <a:off x="4572000" y="685800"/>
            <a:ext cx="0" cy="624852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876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76920" y="2714400"/>
            <a:ext cx="376704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2a3d7a"/>
                </a:solidFill>
                <a:latin typeface="Arial"/>
              </a:rPr>
              <a:t>Představení fakulty, </a:t>
            </a:r>
            <a:br>
              <a:rPr sz="2000"/>
            </a:br>
            <a:r>
              <a:rPr b="1" lang="pl-PL" sz="2000" spc="-1" strike="noStrike">
                <a:solidFill>
                  <a:srgbClr val="2a3d7a"/>
                </a:solidFill>
                <a:latin typeface="Arial"/>
              </a:rPr>
              <a:t>ústavu K6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876560" y="4941360"/>
            <a:ext cx="4267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a3d7a"/>
                </a:solidFill>
                <a:latin typeface="Arial"/>
              </a:rPr>
              <a:t>Prof. Dr. Ing. Miroslav Svít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a3d7a"/>
                </a:solidFill>
                <a:latin typeface="Arial"/>
              </a:rPr>
              <a:t>Ing. Pavel Hrubeš, Ph</a:t>
            </a:r>
            <a:r>
              <a:rPr b="1" lang="en-US" sz="1400" spc="-1" strike="noStrike">
                <a:solidFill>
                  <a:srgbClr val="2a3d7a"/>
                </a:solidFill>
                <a:latin typeface="Arial"/>
              </a:rPr>
              <a:t>.</a:t>
            </a:r>
            <a:r>
              <a:rPr b="1" lang="cs-CZ" sz="1400" spc="-1" strike="noStrike">
                <a:solidFill>
                  <a:srgbClr val="2a3d7a"/>
                </a:solidFill>
                <a:latin typeface="Arial"/>
              </a:rPr>
              <a:t>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684360" y="520020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Květen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6" descr="Multimetr"/>
          <p:cNvPicPr/>
          <p:nvPr/>
        </p:nvPicPr>
        <p:blipFill>
          <a:blip r:embed="rId1">
            <a:lum bright="54000"/>
          </a:blip>
          <a:stretch/>
        </p:blipFill>
        <p:spPr>
          <a:xfrm>
            <a:off x="7496280" y="3789360"/>
            <a:ext cx="1647720" cy="24861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borné aktivity ústavu -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Bezpečnost a spolehlivost telematických systémů a zaříze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hrnuje návrh, implementaci, ověřování a akreditaci různých (pozemních i kosmických) telematických systémů a zařízení zejména systémy železniční zabezpečovací techniky tak, aby byly garantovány požadované systémové parametry. K daným aplikacím budou přidány i systémy testování a certifikace vybraných aplikací dle platných směrnic a standardů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ným koordinátorem této oblasti bude: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g. Martin Leso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acující členové ústav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Ing. Faran, Ing. Fábera, Ing. Marvan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borné aktivity ústavu -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ční a navigační systém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- zahrnuje návrh, implementaci a ověřování různých navigačních a identifikačních systémů s komponentami geoinformatiky jako jsou systémy automatického tísňového volání, systémy dynamické navigace, satelitní systémy elektronického mýtného, systémy pro sledování přepravy nebezpečných nákladů, atd. K daným aplikacím budou realizovány i systémy testování a certifik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ným koordinátorem této oblasti bude: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Ing. Petr Bureš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acující členové ústavu: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c. Zelinka, Ing. Hrubeš, Ing. Vlčková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těžejní kooperace ústav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792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KODA A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lemat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ney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Ž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LTO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PM Con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ČD Telematika, a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nicontr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družení pro dopravní telemati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21964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 veřejné sp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nisterstvo dopravy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nisterstvo škols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licie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editelství silnic a dál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ráva železniční dopravní ces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gistrát hl. m. Pra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ooperace ústavu v oblasti Va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44792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padočeská univerzita v Plz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niverzita Pardub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sarykova univerzita v Br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chnická univerzita Liber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soké učení technické v Br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soká škola báňská- Technická univerzita Ost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21964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Informatiky AV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ahraniční kooperace ústav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44792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Žilinská univerz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U Del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U Mnich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U Linko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U Víde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U Southhamp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lytechnica Tor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21964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E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IA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R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TS asoci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Možnosti kooperace ústav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ítáme veškeré formy spoluprá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y ministerstev (MPO, MD,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zdělávací projekty (E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vropské progra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radenství a odbornou čin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24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ntak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ng. Pavel Hrubeš, Ph.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Konviktská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110 00 Praha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:   http://www.lss.fd.cvut.cz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ail: hrubes@lss.fd.cvut.c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.:  (+420) 224 359 6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x:   (+420) 224 359 5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b.:  (+420) 739 604 73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4" descr="sklizen"/>
          <p:cNvPicPr/>
          <p:nvPr/>
        </p:nvPicPr>
        <p:blipFill>
          <a:blip r:embed="rId1"/>
          <a:stretch/>
        </p:blipFill>
        <p:spPr>
          <a:xfrm>
            <a:off x="5072040" y="3571920"/>
            <a:ext cx="378612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ČVUT v Praze, Fakulta dopravn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4" descr="first-page"/>
          <p:cNvPicPr/>
          <p:nvPr/>
        </p:nvPicPr>
        <p:blipFill>
          <a:blip r:embed="rId1"/>
          <a:stretch/>
        </p:blipFill>
        <p:spPr>
          <a:xfrm>
            <a:off x="1612800" y="857160"/>
            <a:ext cx="7245360" cy="5434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"/>
          <p:cNvPicPr/>
          <p:nvPr/>
        </p:nvPicPr>
        <p:blipFill>
          <a:blip r:embed="rId2"/>
          <a:stretch/>
        </p:blipFill>
        <p:spPr>
          <a:xfrm>
            <a:off x="5715000" y="300024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3" descr="070413FotoVyuka2OPRLZ0352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5114880" y="958680"/>
            <a:ext cx="3508560" cy="2408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Poslucharny 109"/>
          <p:cNvPicPr/>
          <p:nvPr/>
        </p:nvPicPr>
        <p:blipFill>
          <a:blip r:embed="rId2">
            <a:lum bright="40000"/>
          </a:blip>
          <a:stretch/>
        </p:blipFill>
        <p:spPr>
          <a:xfrm>
            <a:off x="5114880" y="3695760"/>
            <a:ext cx="3529080" cy="23763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ČVUT v Praze, Fakulta dopravn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pravní systémy a techn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nagement a ekonomika dopravy    a telekomunik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utomatizace a informat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teligentní dopravní systé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etecká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fesionální pi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chnologie a údržba leta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6" descr="firma"/>
          <p:cNvPicPr/>
          <p:nvPr/>
        </p:nvPicPr>
        <p:blipFill>
          <a:blip r:embed="rId1">
            <a:lum bright="64000"/>
          </a:blip>
          <a:srcRect l="0" t="0" r="2483" b="0"/>
          <a:stretch/>
        </p:blipFill>
        <p:spPr>
          <a:xfrm>
            <a:off x="5329080" y="928800"/>
            <a:ext cx="3600720" cy="2681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rewi2"/>
          <p:cNvPicPr/>
          <p:nvPr/>
        </p:nvPicPr>
        <p:blipFill>
          <a:blip r:embed="rId2">
            <a:lum bright="52000"/>
          </a:blip>
          <a:stretch/>
        </p:blipFill>
        <p:spPr>
          <a:xfrm>
            <a:off x="4824360" y="3952800"/>
            <a:ext cx="4176720" cy="18003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ČVUT v Praze, Fakulta dopravn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aplikované matemat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dopravních systém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ekonomiky a managementu dopravy a telekomunika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informatiky a telekomunika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jazyků a společenských vě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dopravní techn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řízení dopravních procesů a logist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mechaniky a materiá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řídicí techniky a telemat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letecké dopr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soudního znalectví v doprav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pro bakalářská studia - pracoviště Děčí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447920" y="914040"/>
            <a:ext cx="60530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f. Dr. Ing. Miroslav Sví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doucí ústav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ca 40 pracovní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b. laboratoř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ec. zaříze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1500120" y="1571760"/>
            <a:ext cx="1357560" cy="1809720"/>
          </a:xfrm>
          <a:prstGeom prst="rect">
            <a:avLst/>
          </a:prstGeom>
          <a:ln w="0">
            <a:noFill/>
          </a:ln>
        </p:spPr>
      </p:pic>
      <p:sp>
        <p:nvSpPr>
          <p:cNvPr id="121" name="TextovéPole 7"/>
          <p:cNvSpPr/>
          <p:nvPr/>
        </p:nvSpPr>
        <p:spPr>
          <a:xfrm>
            <a:off x="1357200" y="3786120"/>
            <a:ext cx="5643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ktivity ústav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Výuka a vzdělávání, škol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Vědecko - výzkumná čin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Odborná činnost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651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rešeršní práce, posudky, poradens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651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výzkumné zprávy, pilotní projek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651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měření, testování, certifika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4143240" y="1479600"/>
            <a:ext cx="508644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blasti zájmu ústav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Obdélník 23"/>
          <p:cNvSpPr/>
          <p:nvPr/>
        </p:nvSpPr>
        <p:spPr>
          <a:xfrm>
            <a:off x="1285920" y="765000"/>
            <a:ext cx="7858080" cy="60724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Skupina 21" descr=""/>
          <p:cNvPicPr/>
          <p:nvPr/>
        </p:nvPicPr>
        <p:blipFill>
          <a:blip r:embed="rId1"/>
          <a:stretch/>
        </p:blipFill>
        <p:spPr>
          <a:xfrm>
            <a:off x="-353880" y="871560"/>
            <a:ext cx="9248760" cy="59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tele_sml_prezentace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5818320" y="695160"/>
            <a:ext cx="5040360" cy="32338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borné aktivity ústavu -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elematické aplika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hrnuje návrh architektur dopravně - telematických systémů, tvorbu koncepcí a strategií implementace telematických systémů, kontrola kvality telematických systémů, teorie systémů (dynamické aliance), nové metody v telematice (kvantová informatika), elektronické platby, rozsáhlé systémy, at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ným koordinátorem této oblasti je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g. Zuzana Bělin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acující členové ústavu: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f. Votruba, Prof. Novák, Prof. Svítek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borné aktivity ústavu -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Řízení dopr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hrnuje návrh a ověřování řídicích systémů pozemní dopravy za pomoci dalších simulačních a modelovacích nástrojů tak, aby byla splněna kriteriální funkce řízení a to jak na úrovni HW, tak i S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ným koordinátorem této oblasti je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g. Vladimír Fal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acující členové ústav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f. Vysoký, Prof. Přibyl, Doc. Tichý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P1010372"/>
          <p:cNvPicPr/>
          <p:nvPr/>
        </p:nvPicPr>
        <p:blipFill>
          <a:blip r:embed="rId1">
            <a:lum bright="58000"/>
          </a:blip>
          <a:stretch/>
        </p:blipFill>
        <p:spPr>
          <a:xfrm>
            <a:off x="3986280" y="3457440"/>
            <a:ext cx="5157720" cy="29005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borné aktivity ústavu -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Lidský faktor v doprav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hrnuje návrh a ověřování rozhraní člověk-stroj včetně realizace těchto rozhraní na simulátorech. V rámci této oblasti je i skupina zabývající se zpracováním různých signálů (Eye Tracking, Oxygenation Monitor, EEG, EKG,  atd.) a vytěžování těchto dat pro další přidružené oblasti jako je posuzování ovládacích prvků vozidel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ným koordinátorem této oblasti je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g. Petr Bouchner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acující členové ústav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rof. Novák, Prof. Faber, at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2T13:27:44Z</dcterms:created>
  <dc:creator>Pavel Hrubeš</dc:creator>
  <dc:description/>
  <dc:language>en-US</dc:language>
  <cp:lastModifiedBy>Pavel Hrubeš</cp:lastModifiedBy>
  <dcterms:modified xsi:type="dcterms:W3CDTF">2009-05-13T12:55:13Z</dcterms:modified>
  <cp:revision>685</cp:revision>
  <dc:subject/>
  <dc:title>Pracovní jednání projektu OP RLZ 0352</dc:title>
</cp:coreProperties>
</file>